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F6B4-5D98-44B9-AD4C-E0681E1AD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A35E-405B-44F0-9E0D-133DBF4F7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4787-C5CE-4224-A453-DEA1662ED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46C4-FF64-4802-8666-71828FFD8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4444-D89F-4764-AE24-05E3A7582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6D4D-15F1-4FE5-BFB2-47C104C3D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B553-576C-4CD1-A0AC-668853EAB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71F7-572F-43B5-ADBA-8353AA055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A1D5-799D-4574-8899-B0563BF89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602F-1DE9-4C22-AA8A-7DF7B1B8A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7163-DFA9-4BA3-81E6-41CB9EA36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0743-7D2D-4883-A774-1756F0364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7D13-C73D-4E76-AAE6-FA6E3CFCF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A4A2-12BE-4B96-8583-89DFF2BAF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1990-897F-4395-98B3-DE9ADFCAF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525760" y="3213000"/>
            <a:ext cx="64659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7000"/>
          </a:bodyPr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BLE AND / OR IN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nse Pulsed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UNPROTECTED OCCULAR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 OR SCATTER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33"/>
          <p:cNvSpPr/>
          <p:nvPr/>
        </p:nvSpPr>
        <p:spPr>
          <a:xfrm>
            <a:off x="2525760" y="2919240"/>
            <a:ext cx="0" cy="38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6320" y="152280"/>
            <a:ext cx="8991360" cy="2766960"/>
          </a:xfrm>
          <a:prstGeom prst="rect">
            <a:avLst/>
          </a:prstGeom>
          <a:solidFill>
            <a:srgbClr val="ffa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152280"/>
            <a:ext cx="8991360" cy="6629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81080" y="3738600"/>
            <a:ext cx="2260440" cy="20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372960" y="892080"/>
            <a:ext cx="13226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860400" y="1077840"/>
            <a:ext cx="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ngla MN"/>
                <a:ea typeface="Ayuthay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98480" y="544680"/>
            <a:ext cx="7256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3000"/>
          </a:bodyPr>
          <a:p>
            <a:pPr marL="36720" algn="ctr">
              <a:lnSpc>
                <a:spcPct val="100000"/>
              </a:lnSpc>
              <a:spcBef>
                <a:spcPts val="5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33"/>
          <p:cNvSpPr/>
          <p:nvPr/>
        </p:nvSpPr>
        <p:spPr>
          <a:xfrm>
            <a:off x="76320" y="2919240"/>
            <a:ext cx="8991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044880" y="5626080"/>
            <a:ext cx="5334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nse Pulsed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lengths: 400nm – 1400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E. Hoopman</dc:creator>
  <dc:description/>
  <cp:keywords/>
  <dc:language>en-US</dc:language>
  <cp:lastModifiedBy>John Hoopman</cp:lastModifiedBy>
  <cp:lastPrinted>2018-08-15T15:18:09Z</cp:lastPrinted>
  <dcterms:modified xsi:type="dcterms:W3CDTF">2020-03-25T15:08:19Z</dcterms:modified>
  <cp:revision>39</cp:revision>
  <dc:subject/>
  <dc:title>PowerPoint Presentation</dc:title>
</cp:coreProperties>
</file>